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105-62BA-430C-B0B2-DDC6AF3F6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as de correcçã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1: Todos os processos herdam no máximo um pedido para fazer um checkpoint tent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2: Todos os processos terminam a sua execução do algoritmo C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mma 3: Se o conjunto de checkpoints no sistema é consistente antes da execução de C1, continua a ser consistente após o fim de C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ema 2: C'(P) é consistente se e só se C'(P)=C(P), mostra que se p0 faz checkpoin, então todos os processos em P fazem check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 ou não: se q falha, p pode assumir que willing_to_ckpt = "não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ou undo: tem de esperar pela decisão do inici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 o iniciador falha, basta decidir a anulação do checkpoint. Se for um processo normal, tem de pedir a decisão ao iniciador ou aos cohor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dem depois recuperar o estado fazendo rollback até ao último check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tado local de um processo p é definido pelo estado inicial de p e a sequência de eventos que ocorreram em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tado global é o conjunto de estados locais, um de cada pro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Estado dos canais correspondente a um estado global s, é o o conjunto de mensagens enviadas, mas ainda não recebidas em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 corte consistente é um corte em que nenhuma mensagem é gravada como recebida, sem ser gravada como env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istem duas aproximações: independentes ou coordenadas. A criação de checkpoints independentes pode dar origem ao efeito domin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 algoritmo naive de criação de checkpoint, é fazê-lo após o envio de cada mensagem, mas isto é muito dispendioso. Se se alargar isto para k&gt;1 pode ficar a sofrer-se do efeito domin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rova do teorema é baseada em dois processos que enviam uma mensagem ao outro no tempo t, e fazem checkpoint no tempo t. p faz checkpoint em tp, q faz checkpoint em tq. O outro pode falhar antes de fazer o checkpoint, ficando o sistema inconsist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primeira fase, o iniciador q toma um checkpoint tentativo e pede a todos os processos para fazerem checkpoints tentativos. Se q sabe que todos os processos fizeram checkpoints tentativos, q decide que todos devem ser feitos permanentes, senão q decide que todos devem ser anul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F55-F4F7-47C0-9DF4-DE23F68C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46F-900C-445F-BE17-6FDCC12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8D3-19D8-480E-8199-28A5AA2E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C3B-6AF0-472C-97BA-F8794D8C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D284-A51C-400B-BA93-2AFE55E8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A3C-283B-455B-92F0-FA4478B3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3A6-97E7-423E-AB26-717BEC3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7E1-FD57-49D0-8C51-43FB6DC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01C-AE5E-4B23-A5B8-0A07F77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FA8-0245-44EC-BC4F-1DB7BA91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492-72AC-432D-AF30-EF23AD2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BBD-30DE-4928-B8BA-E9F2E0C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88D-7CA8-474C-985D-95FAD44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8569-E138-49D1-AB7D-277E5BA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F2A-94FD-467A-91D7-867971F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30AF-C89F-412F-85DB-1D08655D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8AA0-6E12-47D8-8CDF-439ED3CF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E92-B1B0-4E78-80E5-D31B0F0F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BFC-529C-45E1-AECD-CB38A16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11E-653E-4DBC-AE70-BA4A6422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609-AB5A-42AB-A5AB-ABAD38C2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FE1-EC11-4549-BB01-F5EFC7F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519-FAFB-4B0A-A553-E33E79C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9BB-4ECB-4FA3-B22A-1D9AED6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F1C-38DE-45D8-BA4A-7032EBA9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963-814A-4FF1-8D68-3049A3D5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 and Rollback-Recovery for Distribut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ância a Faltas Distribu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trado de Informática 1998/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o Miranda &lt;hmiranda@di.fc.ul.p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ão Ventura &lt;jcv@bigfoot.co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1752480"/>
          <a:ext cx="4892760" cy="444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752480"/>
                    <a:ext cx="489276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endo Fal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ito em processos que não fal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be “sim” ou “não”dos ckpt_coh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willing_to_ckp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=“no”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 r has fail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en willing_to_ckp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”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be “make” ou “undo” tentative check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ito em processos que fal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ci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 do algoritmo de Rollback-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ve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desfeito por um process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p faz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 para um estado guardado antes da ocorrência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43000" y="3733920"/>
                <a:ext cx="7086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ort</m:t>
                            </m:r>
                          </m:sub>
                        </m:sSub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 pode enviar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ção last_sms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981080"/>
                <a:ext cx="5788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msg</m:t>
                            </m:r>
                          </m:sub>
                        </m:sSub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l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m existir</m:t>
                              </m:r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76212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e p são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é a última mensagem qu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viou par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tes de q ter tomado o últim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Rollback-Recovery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06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1480" y="3962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296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3480" y="2209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6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420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55520" y="2895120"/>
            <a:ext cx="267336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4267080"/>
            <a:ext cx="28148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5680" y="4419720"/>
            <a:ext cx="32054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8960" y="2819520"/>
            <a:ext cx="213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1320" y="388620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20" y="4952880"/>
            <a:ext cx="211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58200" y="1905120"/>
            <a:ext cx="29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Roll_coho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Forte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={p,r,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6600" y="3200400"/>
            <a:ext cx="1619280" cy="77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10040" y="4486320"/>
            <a:ext cx="1619280" cy="530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5715000"/>
            <a:ext cx="1676520" cy="530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q) &gt; 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010040" y="2514240"/>
            <a:ext cx="36100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0040" y="2971800"/>
            <a:ext cx="3990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334120" y="4266720"/>
            <a:ext cx="2514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48640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8040" y="2133720"/>
            <a:ext cx="208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3080" y="3048120"/>
            <a:ext cx="213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97920" y="4876920"/>
            <a:ext cx="21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7760" y="5791320"/>
            <a:ext cx="21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prb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st_sms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920" y="56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62120" y="5943600"/>
                <a:ext cx="2814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lling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ll</m:t>
                                </m:r>
                              </m:sub>
                            </m:sSub>
                          </m:sub>
                        </m:sSub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yes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Rollback-Recovery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06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11480" y="3962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5296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3480" y="2184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6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420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55520" y="2895120"/>
            <a:ext cx="267336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4267080"/>
            <a:ext cx="28148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5680" y="4419720"/>
            <a:ext cx="320544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48040" y="213372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Roll_coho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Forte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010040" y="2514240"/>
            <a:ext cx="361008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10040" y="2971800"/>
            <a:ext cx="399096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73440" y="4266720"/>
            <a:ext cx="32752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5562720"/>
            <a:ext cx="31989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920" y="56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38080" y="5943600"/>
                <a:ext cx="28148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lling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ll</m:t>
                                </m:r>
                              </m:sub>
                            </m:sSub>
                          </m:sub>
                        </m:sSub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yes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347080" y="2743200"/>
            <a:ext cx="191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76880" y="3733920"/>
            <a:ext cx="196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5791320"/>
            <a:ext cx="19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05520"/>
            <a:ext cx="201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396252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5360" y="2895480"/>
            <a:ext cx="199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72428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 willing_to_rol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o algoritm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o algoritm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um outro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 outra ori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be um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quanto executa um outro pedid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 outra ori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iciador de 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/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lha antes de enviar a decisã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tituir o algoritmo por 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e-phase 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ão bloque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a impedido de criar nov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ós falha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ir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ckpt_cohor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zen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algoritmos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resent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m falhas de processos durante a sua exec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número de processos que necessita de realiz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s/rollba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mória estável requerida pelos algoritmos é mí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mas perguntas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62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usada a relaçã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Lam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do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te con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do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não partilham memória e comunicam através de mensagens enviadas por ca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ora os canais percam mensagens são tornados FIFO e fiáveis por outra cam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falham por paragem. Todos os outros processos são notificados da falha em tempo fi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cessos não são determi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ação de Chec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check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tes: não podem ser cance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t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mos resistentes a falhas: se o conjunto de checkpoints permanentes é consistente depois de o algoritmo termi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-se que nenhum algoritmo resistente a falhas usa apenas checkpoint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ções do algoritm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ado em protocolos de two-phase com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 melhorar o desempenho, um processo p apenas faz um checkpoint tentativo, depois de receber um pedido para tal de q, apenas se o checkpoint tentativo de q indicar a recepção de uma mensagem de p e o ultimo checkpoint permanente de p não indicar o envio dessa mensag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 do algoritmo de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= última mensagem que q recebeu de p depois de q fazer o seu último checkpoint (permanente ou tentativ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st_rmsg</a:t>
            </a:r>
            <a:r>
              <a:rPr b="0" lang="en-GB" sz="20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) = m.l se m existe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 caso contr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= primeira mensagem que q enviou a p depois de q fazer o seu último checkpoint (permanente ou tentativ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20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) = m.l se m existe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m caso contrá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ing_to_ckpt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ca a disponibilidade de p para fazer chec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é o conjunto de processos p tal que last_rmsg</a:t>
            </a:r>
            <a:r>
              <a:rPr b="0" lang="en-GB" sz="2400" spc="-1" strike="noStrike" baseline="-12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) &gt;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tes de q fazer um checkpoint tent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 “daemon” (iniciad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take a tentative checkpoint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wait(initiator, willing_to_ckpt</a:t>
            </a:r>
            <a:r>
              <a:rPr b="0" lang="en-GB" sz="1800" spc="-1" strike="noStrike" baseline="-12000">
                <a:solidFill>
                  <a:srgbClr val="000000"/>
                </a:solidFill>
                <a:latin typeface="Times New Roman"/>
              </a:rPr>
              <a:t>initi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willing_to_ckpt</a:t>
            </a:r>
            <a:r>
              <a:rPr b="0" lang="en-GB" sz="1800" spc="-1" strike="noStrike" baseline="-12000">
                <a:solidFill>
                  <a:srgbClr val="000000"/>
                </a:solidFill>
                <a:latin typeface="Times New Roman"/>
              </a:rPr>
              <a:t>initi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“yes”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make tentative checkpoint permanen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initiator, “undo tentative checkpoin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os os processos 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61280" indent="0">
              <a:spcBef>
                <a:spcPts val="49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ad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aemon)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“yes” if p is willing to take a checkpoint, “no” other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ON RECEIPT OF “take a tentative checkpoint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)” from q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)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_s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q)&gt;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ke a tentative check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nd(r, take a tentative checkpoint and last_rms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r)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wait(r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“no” then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”no” 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(q, willing_to_ckp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128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de Checkpoin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os os processos 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ON RECEIPT OF m=“make tentative checkpoint permanent” or m= “undo tentative checkpoint”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m=“make tentative checkpoint permanent”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ke tentative checkpoint perman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do tentative check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all r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kpt_cohor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end(r,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16:38:11Z</dcterms:created>
  <dc:creator>hmiranda</dc:creator>
  <dc:description/>
  <dc:language>en-US</dc:language>
  <cp:lastModifiedBy>jcv</cp:lastModifiedBy>
  <dcterms:modified xsi:type="dcterms:W3CDTF">1999-06-07T10:34:18Z</dcterms:modified>
  <cp:revision>8</cp:revision>
  <dc:subject/>
  <dc:title>Checkpointing and Rollback-Recovery for Distributed Systems</dc:title>
</cp:coreProperties>
</file>