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P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P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P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A34E9-3F2D-4044-9D84-FC77F51BD8A9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RPCs tornaram possível começar a construir aplicações distribuídas sem mudar as linguagens nem os paradigmas de programação. Mais tarde, com o aumento de funcionalidades, tornou-se numa plataforma de M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um programa se tornar parte de um sistema distribuído, bastava ser compilado e ligado ao conjunto correcto de bibliotecas RP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Vozes a favor da transparência indicavam a simplicidade do conceito e o facto de não ser necessário aos programadores lidar com as questões da distribuição direc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vozes contra a trasparência defendiam que ao incluir uma chamada remota num programa, mudava a natureza desse programa. Obrigar os programadores a usar contruções especiais para os RPCs, seria uma forma de os alertar para as implicações da distribuição, daí reduzindo a oportunidade de surgirem er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oje os RPCs são o coração da maioria dos sistemas de informação distribuí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“Remote Method Invocation” é idêntico aos RPCs mas aplicado a métodos de obje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“Stored Procedures” são uma instância de RPCs aplicadas a B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 recurso a uma linguagem de definição de interfaces (IDL), é disponibilizada uma representação abstracta do procedimento com os parâmetros de “input” e os valores retor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 a descrição IDL obtemos a especificação dos serviços disponibilizados pelo servidor e podemos desenvolver o cliente e o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Qualquer implementação RPC ou qualquer MW que use RPCs, disponibiliza esse compilador de interf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ada assinatura de procedimento no ficheiro IDL resulta num “stub” cliente ou num “stub”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“stub” é um pedaço de código para ser compilado e ligado com o código do cliente ou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Quando o cliente efectua uma chamada a um procedimento remoto, a chamada é realmente efectuada localmente ao procedimento disponibilizado pelo “stub” cliente. O “stub” localiza o servidor, formata os dados, comunica com o servidor, obtém a resposta e devolve-a ao cliente como valor de retorno do procedimento invocado pelo 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“stub” cliente não implementa o procedimento, mas todos os mecanismos necessários para interagir remotamente com o servidor, de forma a ser lá executado esse procedi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“stub” servidor contém o código para receber a invocação do “stub” cliente, formatar os dados conforme as suas necessidades, invocar o procedimento real implementado no servidor e devolver os valores retornados pelo procedimento ao “stub” 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compilador IDL produz todos os ficheiros auxiliares necessários ao desenvolvimento da aplicação. As 1as versões dos RPC em C, além dos “stubs”, geravam os ficheiros *.h necessários na fase de compilação. Hoje, também geram “templates” com código base para o servidor, de forma a ser adicionado código para implementar o procedimento no cliente e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“stubs“ RPC lidam com todos os detalhes de programação das comunicações em rede, incluindo “timeouts” e retransmissões se for usado um protocolo não confiável (UD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 mais funcionalidades forem necessárias, mais interfaces RPC são disponibilizadas pelas infraestru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arshaling – Formatar dados numa mensagem antes da sua transmiss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rializing – Transformar a mensagem numa sequência de bits antes de ser enviada num canal de comunicaçõ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a ligação estática o “stub” cliente é “hardcoded” de forma a conter o “handle” do servidor onde está o procedimento. O tipo deste handle depende do ambiente, pode ser um IP e um porto, pode ser um endereço X.500, etc. Ao invocar o procedimento, o “stub” cliente simplesmente reencaminha a chamada para o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ligação estática é simples e eficiente e não é necessária nenhuma infraestrutura adicional aos “stubs” cliente/servidor. Por outro lado, o cliente e o servidor ficam fortemente associados. Se o servidor falhar, o cliente não funcionará. Se o servidor mudar de local, o cliente tem de ser re-compilado com o novo “stub” que incluirá a nova localização. Redundância de servidores impossí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a ligação dinâmica existe um serviço específico, usado pelos clientes, que se encarrega de localizar os servidores adequados. Chama-se Serviço de Nomes e Directórios e adiciona uma nova camada de indirecção para ganhar flexibilidade, à custa da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Nomes e Directórios devolve o endereço de um servidor ao “stub” cliente de forma a poder completar a sua invoc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 a ligação dinâmica pode ser efectuado o balanceamento de carga e é fácil lidar com a relocalização de servidores. Por outro lado temos o aumento de complexidade na infraestrutura, a necessidade de um protocolo para aceder ao Serviço de Nomes, bem como as primitivas para o registo de procedimentos com o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Todas estas operações estão escondidas ao programador. São executadas pelos “stub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Nomes usa a especificação IDL dos procedimentos para efectuar a ligação dinâmica. Usa as assinaturas dos procedimentos, embora a ligação possa ser efectuada com base noutros crité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programador não está necessáriamente ao corrente sobre se a ligação é estática ou dinâmica. A decisão é tomada na altura do desenho do sistema e na altura da criação dos “stub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“stubs” podem esconder não só a distribuição, mas também a heterogene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PCs da altura não tinham poder de processamento para correr os servidores, só os clientes. Através deste mecanismo dos RPCs foi possível o afastamento dos mainframes, mantendo os servidores a funcionar, por exemplo, em ambientes UNIX, e os clientes em 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 plataformas cliente e M plataformas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segunda forma é muito mais eficiente, uma vez apenas é necessário desenvolver “stubs” cliente/servidor para as plataformas correspond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Usando IDL permitia aos clientes/servidores ignorar as especificidades da arquitectura da máquina, das linguagens de programação e dos tipos de dados usados. O IDL define as interfaces de especificação e o formato dos dados trocados entre os clientes e os servidores através da r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RPCs convencionais implicam que o cliente fique bloqueado à espera de uma resposta, e, apesar de os servidores terem várias “threads” a correr ao mesmo tempo, cada uma está alocada a apenas um 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extensões aos RPCs resultaram em plataformas de MW tais como Monitores Transaccionais, Monitores de Objectos, Sistemas de Filas ou “Brokers” de Mensa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ermite que um cliente efectue envie uma mensagem de pedido de um serviço sem se bloquear à espera da respo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ermite que um cliente tenha vários pedidos pendentes enquanto executa outras taref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Quando o cliente efectua a chamada ao procedimento remoto, o “stub” extrai os parâmetros e retorna o controlo imediatamente ao cliente. O “stub” efectua a chamada ao servidor e espera pela resposta. Isto é conseguido com ”threads” do lado do cliente, das quais o programador do cliente não se apercebe. Mais tarde, o cliente efectua uma segunda chamada ao “stub” para obter os resultados. Se a chamada já tiver retornado, o “stub” coloca os resultados numa estrutura de dados partilhada com o cliente, caso contrário, é retornada uma indicação para o cliente tentar novamente mais tarde. Em caso de erro, um código de erro é retornado ao 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o menos informação acerca da ligação é mantida e as respostas estão dissociadas dos pedidos, pode ser mais difícil recuperar de uma falha nos RPCs Assíncro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ntegrar duas BDs numa mesma rede não é o mesmo que integrar 3 sistemas diferentes de uma mesma companhia residentes em várias sucursais através de uma linha alugada, nem se os sistemas são de companhias diferentes e necessitam de comunicar via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vido às abstracções disponibilizadas pelo MW, o programador não precisa de implementar diversas funcionalidades relacionadas com as aplicações distribuí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CE disponibiliza não só uma especificação completa de como os RPCs deveriam funcionar, mas uma implementação standard. Direccionado aos vendedores, para que pudessem usar e extender conforme necessário aos seus produ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esperança era que todos os produtos que usassem o DCE fossem compatíveis entre 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OSF poderia ter razão, uma vez que várias implementações “CORBA-compliant” não são compatíveis entre e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directórios de células é um serviço de nomes e directórios sofisticado, usado para criar e gerir domínios RPC que podem coexistir pacificamente na mesma r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tempo disponibiliza sincronismo temporal a todos os nó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“threads” disponibiliza “threads” e suporta múltiplos process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ficheiros distribuídos permite que vários programas partilhem dados num ambiente D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Serviço de segurança disponibiliza autenticação e comunicações seguras entre clientes e servi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ublicado em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per original que deu origem aos RP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creve um pacote que disponibiliza uma infraestrutura para RPCs no âmbito do projecto Ce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borda as decisões tomadas pelos au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creve a estrutura global do mecanismo RP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creve a infraestrutura para efectuar a ligação aos clientes RP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creve o protocolo de comunicações ao nível de transp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creve alguma análise de desempen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nclui a descrição de optimizações usadas para maximizar a performance e reduzir a carga nos servidores com muitos cli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Cedar era um grande projecto que se concentrava em desenvolver um ambiente de programação poderoso e adequado à construção de sistemas e programas experimentais. Desenhado para “workstations” mono-utilizador, embora também também tenha sido usado em servi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maioria do tráfego ocorria nas redes locais daí que o menor ritmo de transferência nas ligações internet não era um problema. As redes raramente se encontravam sobrecarreg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ão havia linguagem assembly para os Do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decisão pela utilização de chamada a procedimentos, deveu-se à predominância deste mecanismo na linguagem MESA, usada na Xer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ão sabiam se seria exequível, mas dois problemas foram previstos, a incerteza sobre se seria possível integrar na MESA a representação de endereços remotos sem efeitos malignos, e a incerteza sobre seria atingida eficiência aceitável com os custos acres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ão seguir este princípio levaria às mesmas complexidades de outros pacotes de comunicações e protocolos que os tornaram dificeis de u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hamadas locais não têm “timeouts” e as suas linguagens continham mecanismos para abortar uma actividade que faziam parte dos seus mecanismos de processamento paralelo. Implementar “timeouts” iria complicar o mecanismo RPC desnecessari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RPCRuntime é responsável pelas retransmissões, “acknowledments”, encaminhamento de pacotes e encript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RPCRuntime faz parte do sistema Ce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qui o compilador IDL é um programa chamado Lupine, que gera os “stub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geração da interface é feita recorrendo aos módulos de interface M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Uma abstracção de um servidor de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Um implementação específica de um servidor de email entre v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Para a ligação RPC foi usado o sistema de BDs Grapevine distribuída por vários servidores na rede interna da Xer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Para um servidor dar a conhecer uma interface aos seus clientes remotos, invoca um procedimento no “stub” servidor, que por sua vez invoca um outro procedimento no RPCRuntime, que actualiza o Grapevine com o nome da interface (tipo e instância) juntamente com o procedimento que lhe está associado. O RPCRuntime do servidor mantém uma tabela com todas as interfaces exportadas (nome da interface, procedimento exportado, identificador único de 32 bit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Quando um utilizador quer usar um procedimento remoto, invoca um procedimento no seu “stub” utilizador indicando o tipo e instância do interface desejado, que por sua vez invoca um procedimento no RPCRuntime que determina o endereço de rede do servidor ao consultar o Grapevine. O RPCRuntime do utilizador efectua um RPC ao RPCRuntime do servidor para determinar a informação de ligação associada ao tipo e instância do interface desejado. Se o servidor estiver a exportar o interface, então o identificador único na tabela do RPCRuntime é devolvido e, consequentemente, o utilizador já pode executar o seu procedimento remoto. O “stub” do utilizador guarda o endereço de rede, o identificador e index na tabela para usar em chamadas futu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O “stub” utilizador usa o identificador único e o index na tabela do interface ao efectuar a chamada remota. O RPCRuntime usa o index recebido para confirmar a sua existência na tabela e passar o pacote da chamada à implementação do procedim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O controlo de acesso ao Grapevine garante que não pode haver utilizadores mal-intencionados a exportar interfa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Usando um protocolo seguro, é possivel implementar autenticação bi-direccional entre os utilizadores e o Grapevine, de forma a garantir que os serviços anunciados no Grapevine são fidedig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Já era disponibilizada ligação dinâmica e estát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pós algumas experiências, decidiram que obteriam ganhos de desempenho se fosse desenhado e desenvolvido um protocolo de transporte específico para RP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custo de iniciar, terminar e manter informação sobre o estado de uma ligação era considerável, e, se para grandes transferências de dados isso se tornaria irrelevante, no caso dos RPCs, em que o volume de dados é curto mas muitas vezes efectuado, com muitos clientes, isso tornar-se-ia muito dispendi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imitar o funcionamento das chamadas locais, se o servidor encalhar num “loop” infinito ou num “deadlock” a chamada nunca term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Tornar eficientes as comunicações. A máquina que transmite o pedido é responsável por retransmiti-lo até obter uma resposta. A resposta a um pedido é “acknowledge” suficiente para o pedido e um segundo pedido é “acknowledge” suficiente para a resposta ao pedido, uma vez que cada pedido tem um identificador ú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ada ligação entre utilizador e servidor mantêm-se apenas entre o pacote de pedido e o pacote de resposta, estes dois pacotes são o início e o fim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identificador único de cada pedido, obtido durante o processo de ligação, é informação suficiente acerca do estado da ligação, evitando os “handshakes” necessários de outros protocolos de comunic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plicação em que parte do código deve ser executado num PC e outra parte noutro P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ockets para abrir um canal de comunicações entre a parte da aplicação num PC e a parte da aplicação no out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Usar o socket para trocar inform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Escrever código para criar o canal e para lidar com os erros e/ou falhas que possam ocorrer com o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mplementar um protocolo de forma a que as duas partes da aplicação possam trocar informação de uma forma ordei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protocolo especifica quem envia o quê, quando e qual a resposta esper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finir o formato da informação tro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mplementar a aplicação que usa o canal de comunicaçõ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ódigo para lidar com mensagens erradas, falhas no outro extremo do canal, procedimentos de recuperação para operações falhada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Um pacote sonda é enviado de tempos a tempos (5 em 5 minutos), ao qual o servidor tem de responder, de forma a que o utilizador verifique se há problemas nas comunicações, ou se o servidor “crashou”. Não detecta “dead-locks” nem “loops”infini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 o pedido é demasiado grande para caber num só pacote, então o pedido é dividido em pacotes, e todos menos o último têm de ser “acknowledged” antes de ser enviado o próximo. Nesta situação, existe um número de sequência associado à chamada para permitir a eliminação de pacotes em dupli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 “signals” e “catch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processamento em paralelo está “built-in” nas “features” da Mesa e do Ce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reduzir os custos de criar e fazer “swaping” de processos, mantêm-se no servidor uma série de processos “idle” dispostos a tratar pacotes recebidos, que regressam ao estado “idle”, em vez de morrer, depois de tratar cada 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Em chamadas simples não há lugar à criação de processos, apenas trocas de processos que se encontram “id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ão disponibilizadas funcionalidades para encriptar as chamadas e os resultados. Estas funcionalidades usam o Grapevine como Serviço de Autenticação ou Centro de Distribuição de Chaves e usam o DES (Data Encryption Standard). A autenticação é bi-direc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Quando é feita a primeira chamada, o cliente pode importar o objecto que implementa o interface disponibilizado pelo servidor. Se a implementação mudar, o servidor pode passar a disponibilizá-la aos clientes. O método é executado localmente ao cliente e aliviar a carga do servidor sem ser necessário descarregar mais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RMI suporta duas classes que implementam o mesmo interface. Uma corre no servidor, sendo a implementação do comportamento. A outra corre no cliente e serve como proxy do serviço rem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Quando um cliente quer invocar um método remoto, importa do servidor o objecto que implementa o método, tal como especificado pela interface em Java. Se for a primeira vez que o RMI runtime do cliente vê a implementação do método, então pede uma cópia ao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RMI usa o mecanismo standard do Java de serialização de objectos para passar obje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ermite a passagem de endereços de objectos remotos como argu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utra possibilidade é a de enviar como argumento um objecto Task, que irá ser executado num servidor remoto, típicamente muito mais performante, e obter como resposta o resultado da execução remota (método run() do objecto Tas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erentes tipos de servidores têm diferentes semânticas de referê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“stub” efectua o “marshalling” dos argumentos para o método, usando a serialização de objectos, e envia a pedido “marshalled” para o serv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objecto RMISecurityManager irá impedir que implementações descarregadas tenham qualquer tipo de acesso aos computadores loc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Também é possível a implementação de gestores de segurança custom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clientes atrás de “firewalls” poderem comunicar com servidores remotos da maneira mais rápida possível é possível usar o obejcto UnicastRemoteObject, que efectua as seguintes tentativ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Usar “sockets” para comunicar directamente com o porto do servid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 falhar, construir um URL com o “host” do servidor e com o porto e efectuar um pedido HTTP POST ao URL construído, enviando a informação para a “skeleton” no corpo do POST. Se for bem sucedido, a resposta do “skeleton” ao “stub” do cliente é o resultado do P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 também falhar, construir um URL com o host do servidor e o porto 80, o porto HTTP, usando um script CGI que irá enviar o pedido RMI ao servi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 alguma técnica funcionar passa a ser usada com o servidor, caso contrário, o RMI falh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bstracção que esconde o canal de comunicações atrás de uma interface com a aparência exacta de uma chamada a um procedi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 RPCs só é necessário reformular a comunicação entre as duas partes da aplicação, de modo a usar as chamadas a procedimentos (RPC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resto é feito pela abstracção RPC implementada pelo M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RPCs agem como a interface de programação contruída em cima da interface de comunicações disponibilizada pelo SO (sockets), que por sua vez é construída em cima de uma pilha de protocolos de comunic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 se desejar que o MW também faça tratamento de erros, podemos usar RPCs transaccion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 RPCs transaccionais não é necessário preocuparmo-nos com o estado da invocação ou interacção caso aconteça algum er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 MW garante a recuperação de possíveis efeitos secundários caso uma transacção necessite de abortar, através de procedimentos de recuper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lgumas plataformas de MW modernas implementam persistência automática, de forma que as aplicações, em caso de falha, possam manter o estado de coerência e recuperar rapid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RPCs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são a forma mais básica de MW, são a base de quase todas as outras formas de MW, incluindo o MW de Serviç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Monitores Transaccionais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são a forma de MW mais antiga e melhor conhecida, é também a tecnologia mais fiável, melhor testada e mais estável na área da integração aplicacional de empresas. Podem ser vistos como RPCs Transaccion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Brokers de Objectos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são a evolução das plataformas de MW para suportar a invocação de objectos remotos, sendo em termos de implementação muito semelhantes aos RP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Extensão aos Monitores Transaccionais para suportar as linguagens orientadas a objectos. A convergência entre os Monitores TP e os Brokers de Objectos resultou em sistemas híbridos chamados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Monitores de Obje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MW Orientado a Mensagens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são a extensão dos Monitores Transaccionais com sistemas de filas persistentes de mensagens, disponibilizando o acesso às filas e a um conjunto de primitivas para leitura/escrita de filas locais/rem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Brokers de Mensagens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são uma forma distinta de MW orientado a mensagens, com a capacidade de transformar e filtrar as mensagens nas filas. Também são capazes de determinar dinâmicamente o destinatário das mensagens, baseados no seu conteúdo. Lógica aplicacional pode ser aplicada às filas, permitindo a implementação de interacções assincronas muito mais sofistic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o cada plataforma de MW disponibiliza a sua infraestrutura fixa, usar várias plataformas implica ter de lidar com várias infraestruturas. Uma percentagem significativa da infraestrutura base é idêntica em todas as plataformas e muito provavelmente baseada em RPCs, mas tornada incompatível devido à customização da infraestrutura a cada produ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onitores de Objectos =&gt; Consolidação entre os Monitores Transaccionais e os Brokers de Objectos. As grandes suites de plataformas de MW são disponibilizadas por algumas das maiores empresas do ramo, apesar de ainda não ser perfeita a integração, o caminho melhora rapidamente com as versões implementadas dessas su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noções estabelecidas surgem em todas as formas de MW, e também são grande parte dos Serviç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E7F-E96D-436C-AF85-4243F83C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27A-8FE9-4E15-86F4-1EBFA92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3B6-55FC-4C2E-823C-1DABD5BF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F9D-4F23-4662-9A7A-EA607B58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5EC3-EF0A-4E66-B0F9-B0EE25F4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A3B6-BEEA-4006-B0FE-398ACA9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5F2-7697-4F9B-A6EB-6840372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7EFF-2754-4E56-9314-2181E677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F1D9-7A1C-44C5-AA50-49E91906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051E-6D34-491C-B225-E9F4A7E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723-DE73-4D37-8FF8-5C30AB5E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460-A376-408F-A181-F83DB650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8237-398D-438B-A72E-5E18BB3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BC8A-AD8B-472F-AE1F-F23AA13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E783-58DB-4BB4-96C7-8753B8A6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1421-0768-44BF-813D-660829F6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C063-6684-412E-B095-190760F5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52B-90B3-4D64-8DD8-73543324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C20-068A-4911-A796-29C6FC20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DF4-432C-4830-AA33-EDA0854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20A-75AA-4315-819C-9D947F52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3BA-074C-458D-9E59-36FAEB2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B96-850B-4FCD-93FC-0EBD5C0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4E6-1E77-4314-A1C9-AFBB33B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564F-A8D7-45F6-9D27-BE1565AC9AD5}" type="slidenum"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3849-E49D-4D5B-9C8B-2AF042595789}" type="slidenum"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330033"/>
                </a:solidFill>
                <a:latin typeface="Times New Roman"/>
              </a:rPr>
              <a:t>Tecnologias de Middle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RPC – Remote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O Iníc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ma “limpa” de lidar com a distrib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oção de procedimento muito familiar na a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icialmente era uma colecção de bibliote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questão sobre se os RPCs deveriam ser ou não ser transparentes ao programador foi muito deba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maioria dos sistemas modernos baseados em RPCs usa a aproximação da tranpa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A82-CD4B-4B9B-94C9-1A908A1292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Funcion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ssos para desenvolver um servidor que implementa um procedimento que irá ser usado remotamente por um cl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lnSpc>
                <a:spcPct val="90000"/>
              </a:lnSpc>
              <a:spcBef>
                <a:spcPts val="1624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Definir a interface do procedimento e gerar a descrição I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ilar a descrição IDL para produzir os “stubs” cliente/servidor, os “templates” e referências de códi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ilar e ligar o código cliente/servidor com os “stubs” e “templates” e referências de códi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965-1D35-4765-BEBA-C564202A46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Funcion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032600" cy="4295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9F5-935D-40A2-B9BE-76DB98D6FF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Funcion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129440" cy="3724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47F-BC3D-4886-825D-87EC5BE53A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Li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igação é o processo pelo qual o cliente cria uma associação local a um dado servidor de forma a invocar um procedimento re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igação es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igação dinâ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F4C-D604-41D7-807D-7835A59A06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Lig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54240" y="1844640"/>
            <a:ext cx="5226120" cy="4035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094-1625-4147-8787-6CDA460ECC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Heterogene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través de “stubs” mais complexos, é possível o desenvolvimento de clientes em plataformas diferentes das dos serv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istem muitas plataformas diferentes onde os clientes/servidores podem ser exec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istem muitas linguagens diferentes para implementar os clientes/serv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63A-6594-45B6-B9D4-E6A80CDB0E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Heterogene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juntos de “stubs” cliente/servidor para cada combinação possível de linguagem/plataforma (2*N*M “stub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ar uma forma de representação intermédia apenas para a qual os clientes e os servidores necessitam de saber traduzir (N+M “stub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L para definir as interfaces e o mapeamento entre as linguagens de programação e as representações intermé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C2D-F9CB-46F9-83BD-9B9FE86034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Extens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s RPCs convencionais têm alguma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árias extensões aos mecanismos RPC básicos foram implementadas para responder às exigências dos sistemas de informação distribu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árias extensões aos RPCs resultaram em plataformas de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1E9-43D0-49AF-BB4E-779984DCA9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RPCs Assíncron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das primeiras extensões aos RPCs a suportar chamadas não bloque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“handler” de comunicações retorna o controlo de execução ao programa cliente imediatamente após ter enviado o pe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“stub” disponibiliza um ponto para efectuar a chamada ao procedimento e um ponto para obter a resposta à cha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serem realmente úteis, os RPCs Assíncronos necessitam de uma infraestrutura muito mais sofisticada do que os “stubs” disponibi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050-8B3D-4AA0-9C7F-3EB5E84182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Middleware (MW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sponibiliza e gere a interacção entre aplicações através de plataformas de computação heterogé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olução de arquitectura para o problema da integração de servidores e aplicações numa interface co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ferece abstracções de programação que escondem alguma da complexidade de construir uma aplicação distribu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49F-FA2F-4B46-B2AB-4274F92EFF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32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330033"/>
                </a:solidFill>
                <a:latin typeface="Times New Roman"/>
              </a:rPr>
              <a:t>RPC – Distributed Computing Environment (DC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sponibilizado pela Open Software Foundation (OSF), ainda é usado por várias plataformas MW e produtos de integração empresa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CE resulta de uma tentativa falhada de criar um “standard”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apresentação do CORBA como “standard” beneficiou do erros do DCE, só apresenta uma especificação, não uma 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BD7-2E25-4AF9-ADB8-F8EE0BE03E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D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plataforma DCE disponibiliza RPCs e outros serviços úteis ao desenvolvimento de sistemas de informação distribu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es serviços inclu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erviço de directórios de cél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erviço de t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erviço de “thread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erviço de ficheiros distribuí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erviço de seguranç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91F-4911-409F-B284-EDBF48980D3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330033"/>
                </a:solidFill>
                <a:latin typeface="Times New Roman"/>
              </a:rPr>
              <a:t>RPC – Distributed Computing Environment (DC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49560" y="1916280"/>
            <a:ext cx="5159160" cy="3881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CC1-505A-42BA-9E0A-F3F9B1AE66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330033"/>
                </a:solidFill>
                <a:latin typeface="Times New Roman"/>
              </a:rPr>
              <a:t>Implementing Remote Procedure Call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ndrew D. Birrell and Bruce Jay N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Xerox Palo Alto Research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Ambiente envolvendo o projec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acote RPC construído foi desenvolvido para ser usado no ambiente de programação Ce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maioria dos computadores eram Dorados, com um espaço de endereçamento virtual de 24 bits e um disco de 8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comunicações eram estabelecidas sobre a rede interna de investigação da Xerox, maioritariamente Ethernet a 3 Mbps e certos troços a 1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redes ligavam-se entre elas via linhas dedicadas e/ou ligações por satélite com ritmos de transferência entre 4800 e 560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gramação de alto-nível essencialmente em Mesa mas também algum Smalltalk e Inter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595-3799-4EEC-8EE7-542E4908C4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Decisões fundament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escolha entre usar a chamada a procedimentos ou a troca de mensagens é indif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hipótese de emular o uso de um espaço de endereçamento partilhado entre computadores foi descar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semântica das chamadas a procedimentos remotos devem ser o mais semelhante possível às l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existência de “timeouts” nas ch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3D9-1F85-415E-88A1-6CA8907617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Estru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7280" y="2155680"/>
            <a:ext cx="7402680" cy="3289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679-2C02-4B3C-A31F-4B62DD1DB0E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Ligação - Nom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ma interface a exportar é composta por um Tipo e uma In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Tipo especifica, com algum nível de abstracção, qual o tipo de interface que o cliente espera que o servidor imp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Instância especifica qual é a implementação particular da interface abstracta desej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11E-76E1-4EFC-929F-03CE8CA9D9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Ligação – Localizar o 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82920" y="1674720"/>
            <a:ext cx="4753080" cy="441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C0D-4465-4643-BBF7-60FB8731E0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330033"/>
                </a:solidFill>
                <a:latin typeface="Times New Roman"/>
              </a:rPr>
              <a:t>Protocolo de Transporte ao nível do pacote – Chamadas Simpl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chamada só é interrompida se o servidor “crashar” ou houver uma falha nas comun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enas um pacote por cada pedido de invocação e um por cada resultado da invo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6121440" cy="2643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6B3-195E-45DB-884F-9651E1C8B6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Aplicação Distribuida Sem M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38560" y="3141720"/>
            <a:ext cx="136836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3141720"/>
            <a:ext cx="136836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6920" y="38624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38560" y="3502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8C4-D679-495E-9564-51F663E9E1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330033"/>
                </a:solidFill>
                <a:latin typeface="Times New Roman"/>
              </a:rPr>
              <a:t>Protocolo de Transporte ao nível do pacote – Chamadas Complex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3440" y="1701720"/>
            <a:ext cx="4516560" cy="431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50D-4DE4-4954-B4BC-5FC2D87B7A1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Tratamento de Excep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pirado na linguagem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Servidor devolve um pacote-excepção em vez de um pacote-resultado quando “apanha” uma ex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o RPCRuntime do utilizador tiver um tratamento para a excepção, executa-a, caso contrário, devolve o processamento ao utilizador com indicação da ex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lém das excepções, o RPCRuntime do utilizador pode devolver-lhe uma excepção “call-failed” no caso de problemas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5F4-C7AC-4927-8F85-7355677AC2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Proces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processo utilizador constrói o 1º pacote, inclui o seu id de processo e um id de processo destino plausível, envia-o e bloqueia-se à espera da resp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 servidor, o “interrupt handler” recebe o pacote e notifica um processo servidor adeq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processo servidor executa a chamada, constrói e devolve o pacote resposta incluindo o id do processo utiliz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“interrupt handler” no utilizador recebe a resposta e devolve-a ao processo utiliz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processo utilizador fica agora a conhecer o id do processo servidor e pode usá-lo nos pacotes subsequentes da chamada ou para iniciar uma chamada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7E5-BDCB-4527-A672-D4674F8C7E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0033"/>
                </a:solidFill>
                <a:latin typeface="Times New Roman"/>
              </a:rPr>
              <a:t>Java Remote Method Invocation</a:t>
            </a:r>
            <a:br>
              <a:rPr sz="3600"/>
            </a:br>
            <a:r>
              <a:rPr b="1" lang="pt-PT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br>
              <a:rPr sz="3600"/>
            </a:br>
            <a:r>
              <a:rPr b="1" lang="pt-PT" sz="3600" spc="-1" strike="noStrike">
                <a:solidFill>
                  <a:srgbClr val="330033"/>
                </a:solidFill>
                <a:latin typeface="Times New Roman"/>
              </a:rPr>
              <a:t>Distributed Computing for Jav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UN Developer Network Whit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Visão geral dos RM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sponibiliza um modelo simples e directo para o desenvolvimento de aplicações distribuídas usando objectos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igam-se a sistemas existentes usando o interface Java de métodos nativos J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igam-se a BDs relacionais usando a “package” 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s combinações RMI/JNI e RMI/JDBC permitem usar os RMIs para comunicar com servidores usando outras lingu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00F-8367-426F-A55D-F454348ADB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Vantagens dos RM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O: Objectos como argumentos e como valores de retorno sem complexidade acres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dade de Comportamento: O cliente pode importar os objectos que implementam comportamentos dos ser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gurança: Usam os mecanismos de segurança embebidos no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ácil de escrever/usar: Um interface remoto é um interfac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gação a sistemas existentes: Usando RMI/JNI é possível escrever clientes em Java que se ligam a servidores existentes, e reescrever também os servidores em Java. Usando JDBC é possível a ligação a BDs relacionai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E88-2370-49A1-9AFA-CAD1AED1D5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Vantagens dos RM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rtabilidade: Qualquer sistema RMI corre em qualquer máquina virtual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arbage Collection” distribuída: Conseguem reaproveitar objectos no servidor que não são usados por mais nenhum cliente re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putação Paralela: “Multi-threading” suportado através da recorrência às “threads” Java para melhorar o processamento concorrente dos pedido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te da solução “Java Distributed Computing”: Faz parte do núcleo da plataforma Java JDK 1.1, logo, presente em qualquer máquina virtual Java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F07-7C62-4E83-8A8B-B72A0277A7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Estrutura de Implementação RM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4221000"/>
            <a:ext cx="2232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6880" y="42926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4221000"/>
            <a:ext cx="2232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2349360"/>
            <a:ext cx="215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4724280"/>
            <a:ext cx="16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724280"/>
            <a:ext cx="1655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160" y="42861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5880" y="4724280"/>
            <a:ext cx="68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rviç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0560" y="4724280"/>
            <a:ext cx="122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rviç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2421000"/>
            <a:ext cx="7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erviç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03640" y="3213000"/>
            <a:ext cx="1512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16360" y="3213000"/>
            <a:ext cx="1656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50846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9080" y="472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91C-6E21-4B42-85EE-26E461C97C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Arquitec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o exportar um servidor, o seu tipo de referência é defi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ndo um cliente recebe uma referência de um servidor, o RMI descarrega um “stub” que traduz as chamadas a essa referência em chamadas remotas ao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“stub” efectua o “marshall” dos argumentos e serializa-o para o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servidor, o “skeleton” recebe e “unmarshall” a chamada, e invoca o método com os argumentos da cha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ercurso inverso é semelhante, sendo devolvido o resultado da invocação do método ou uma ex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CAB-A17C-49F3-8F7B-85A78A2767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Seguranç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RMI disponibiliza a utilização de sockets de diversos tipos, incluíndo sockets encrip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RMI usa o mecanismo standard do Java que usa o object SecurityManager para tratar das questões de segurança, obrigando à instalação de um SecurityManager antes de exportar um objecto do servidor ou invocar um método de um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41E-4B8A-430D-A550-1C119C1772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Aplicação Distribuida com RP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8560" y="3141720"/>
            <a:ext cx="136836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3141720"/>
            <a:ext cx="136836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6920" y="38624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38560" y="3502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9C5-1D77-4322-BC53-1A84A52D3F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0033"/>
                </a:solidFill>
                <a:latin typeface="Times New Roman"/>
              </a:rPr>
              <a:t>Camadas escondidas pela abstracção RP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1898640"/>
            <a:ext cx="7056360" cy="390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8F3-7530-4E08-9CBA-1D0286AA35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Prós e contras do M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nto mais fizer o MW, melhor será para a programação de uma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is funcionalidades=&gt;maior complexidade e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segredo é usar apenas as funcionalidades necessárias à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funcionalidades de MW normalmente são disponibilizadas em plataformas 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sar plataformas menos poderosas e extendê-las conforme as neces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vantagens da abstracção disponibilizada pelo MW são obscurecidas pelo custo e complexidade das infraestruturas a suportá-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C3F-21A3-453A-B39A-118EF74EB6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Tipos de M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istemas Baseados em R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onitores Transac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rokers” de Obj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onitores de Obj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W Orientado a Mens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rokers” de Mens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600-276D-4528-A626-1C47B521D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Convergência do M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asiado MW com funcionalidades semelhantes e concor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blemas ao usar diferentes plataformas MW para poder usar diferentes abstracções de implementação num mes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as tendências na evolução do MW, a consolidação de plataformas complementares e o aparecimento de pacotes massivos de produtos que disponibilizam, num ambiente integrado, várias formas de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836-782A-4310-8821-C7D84B75A7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200" spc="-1" strike="noStrike">
                <a:solidFill>
                  <a:srgbClr val="330033"/>
                </a:solidFill>
                <a:latin typeface="Times New Roman"/>
              </a:rPr>
              <a:t>RPC – O Iníc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rge no início dos anos 80 por A. Birrell e B.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artigo original apresenta os RPCs como uma forma de invocar procedimentos noutras máquinas de uma forma transpa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abelece as noções de cliente, servidor, “Interface Definition Languages” (IDL), serviços de nomes e directórios, ligação dinâmica, interface de serviç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cnologias de Middleware - RP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7EC-3EFE-4903-8827-BE267D8150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uno Ferreira - 23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09:32Z</dcterms:created>
  <dc:creator>Nuno Ferreira</dc:creator>
  <dc:description/>
  <dc:language>en-US</dc:language>
  <cp:lastModifiedBy>Nuno Ferreira</cp:lastModifiedBy>
  <dcterms:modified xsi:type="dcterms:W3CDTF">2004-09-22T23:50:57Z</dcterms:modified>
  <cp:revision>76</cp:revision>
  <dc:subject/>
  <dc:title>Tecnologias de Middleware</dc:title>
</cp:coreProperties>
</file>